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7FCC-60E8-4B77-9767-F3FDEC75080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24F6-EAC0-4857-8AD1-EB986B4DC88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B9CA-00A1-487E-8780-CED1704A5A5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80C3-2FD3-4068-A4C5-DF5936DBBEB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78CD-7BE3-4450-B1BF-EF01C9F504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893A-4305-496D-89EF-2A656FD25AC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0A4A-5615-49CD-9ABD-2DD24291F2F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7F15-1621-449D-9DB3-635CF47974B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15B9-452F-4506-B4CB-DC925E8D911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122E-E6CB-421E-8E5F-467922FC75F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A6B7-6205-422F-B20D-C5A682EF0C9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1CD7-EBD0-4B5E-865A-97A35317CBE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65C7-742E-4D55-872D-31287BC2CEC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9A10-3458-44F3-94EB-B0F7E22F1A5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83E0-CEB9-471F-B763-9D96A251A7D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8153-B697-4A70-89AA-AE279AB5997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9329-5485-4B70-8FCC-67C38372B04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FE55-6F0E-4583-A788-0772AA71DB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2DEB-7D54-4A07-9F1C-1C766F07E67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E229-C973-4212-A716-8E0D68DF2C3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FCAA-F17F-4E83-A45E-6816EB70261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7FCB-4D15-49FC-BA55-0076943353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228-35D2-4470-8F3E-F1770681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A626-A7B8-44F1-99BE-DFE2A624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24D-21AA-4D56-9F63-CCE8ACB7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6906-40C2-4D51-A5F6-981DA1FB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ECE8-B530-4056-9B71-D9078634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1467-41BF-4B51-BF6A-4DB811BD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6095-6C00-4417-B74D-7DE803A1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6478-9478-4B36-8DB6-138CDC79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FD41-3903-418A-AA36-3DC33C42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3B9E-50EF-4E91-A06A-0F1B5565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DB65-FB9B-4142-B1DD-8B97C730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436-3B56-4BAF-B405-B263652F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20C7-BD2D-48E7-A3AC-30C4BF0A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F51E-7B9F-4073-9AA8-D8BB75B3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1846-8F39-4462-A5CC-01D9E961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5D71-71FC-434A-99F1-6895A78C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AA76-C76E-42A0-BED0-9AFA7A62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8F1F-6415-4ADD-A673-F84A0B62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213D-C3C0-42EB-BAF0-6D3E96FE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C094-3E2F-44B2-8AAE-581FB840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3B2A-06D2-4B19-84ED-E9AD4CFE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8351-44B7-4CCA-B2C5-7300FF90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9277-329F-481E-8422-CF15839E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7FE7-7DC1-46F1-BB57-16F805D1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32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03640" y="259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ana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fld id="{A879B3B0-6439-4889-8EC6-793D94B75A6C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187280" y="260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2276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1"/>
          <p:cNvSpPr/>
          <p:nvPr/>
        </p:nvSpPr>
        <p:spPr>
          <a:xfrm>
            <a:off x="4572000" y="0"/>
            <a:ext cx="4572000" cy="2276640"/>
          </a:xfrm>
          <a:prstGeom prst="rect">
            <a:avLst/>
          </a:prstGeom>
          <a:solidFill>
            <a:srgbClr val="50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4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352680" cy="196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AVC\Desktop\powerpoint\logo_MENDELU_CMYK-2.gif"/>
          <p:cNvPicPr/>
          <p:nvPr/>
        </p:nvPicPr>
        <p:blipFill>
          <a:blip r:embed="rId4"/>
          <a:stretch/>
        </p:blipFill>
        <p:spPr>
          <a:xfrm>
            <a:off x="1285920" y="5072040"/>
            <a:ext cx="1414440" cy="1108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3A83-CB05-4654-A778-C2B7AEBC99B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32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187280" y="260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684360" y="2723400"/>
            <a:ext cx="820728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32c92"/>
                </a:solidFill>
                <a:latin typeface="Arial"/>
                <a:ea typeface="Arial"/>
              </a:rPr>
              <a:t>Analýza aktuální zapojení ČR do konceptu Smart City a Smart Region v souvislosti s novými tre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32c92"/>
                </a:solidFill>
                <a:latin typeface="Arial"/>
                <a:ea typeface="Arial"/>
              </a:rPr>
              <a:t>Libor Gr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32c92"/>
                </a:solidFill>
                <a:latin typeface="Arial"/>
                <a:ea typeface="Arial"/>
              </a:rPr>
              <a:t>Stanislav Volč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:\Users\spravce\Downloads\loga_bila na magente.png"/>
          <p:cNvPicPr/>
          <p:nvPr/>
        </p:nvPicPr>
        <p:blipFill>
          <a:blip r:embed="rId1"/>
          <a:srcRect l="2580" t="9437" r="7451" b="411"/>
          <a:stretch/>
        </p:blipFill>
        <p:spPr>
          <a:xfrm>
            <a:off x="1692360" y="0"/>
            <a:ext cx="3456000" cy="154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5148360" y="-27000"/>
            <a:ext cx="4013280" cy="1574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536400" y="404640"/>
            <a:ext cx="72252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4412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ůměrná úroveň naplnění kritérií procesů PDCA implementace konceptu SC/R ve výběrovém souboru samosprávných krajů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57" name="picture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5400720" cy="4321440"/>
          </a:xfrm>
          <a:prstGeom prst="rect">
            <a:avLst/>
          </a:prstGeom>
          <a:ln w="0">
            <a:noFill/>
          </a:ln>
        </p:spPr>
      </p:pic>
      <p:sp>
        <p:nvSpPr>
          <p:cNvPr id="158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2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4412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ůměrná úroveň naplnění kritérií procesů PDCA implementace konceptu SC/R ve výběrovém souboru krajských měst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60" name="picture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400720" cy="4321080"/>
          </a:xfrm>
          <a:prstGeom prst="rect">
            <a:avLst/>
          </a:prstGeom>
          <a:ln w="0">
            <a:noFill/>
          </a:ln>
        </p:spPr>
      </p:pic>
      <p:sp>
        <p:nvSpPr>
          <p:cNvPr id="161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3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74412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ůměrná úroveň naplnění kritérií procesů PDCA implementace SC/R ve výběrovém souboru bývalých okresních a ostatních měst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63" name="picture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400720" cy="4319640"/>
          </a:xfrm>
          <a:prstGeom prst="rect">
            <a:avLst/>
          </a:prstGeom>
          <a:ln w="0">
            <a:noFill/>
          </a:ln>
        </p:spPr>
      </p:pic>
      <p:sp>
        <p:nvSpPr>
          <p:cNvPr id="164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4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50920" y="1052640"/>
          <a:ext cx="8569080" cy="5659200"/>
        </p:xfrm>
        <a:graphic>
          <a:graphicData uri="http://schemas.openxmlformats.org/drawingml/2006/table">
            <a:tbl>
              <a:tblPr/>
              <a:tblGrid>
                <a:gridCol w="1800000"/>
                <a:gridCol w="1081080"/>
                <a:gridCol w="1152720"/>
                <a:gridCol w="1224000"/>
                <a:gridCol w="1150920"/>
                <a:gridCol w="1044360"/>
                <a:gridCol w="1116000"/>
              </a:tblGrid>
              <a:tr h="684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a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áno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ntr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rek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klus PD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avskoslez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soč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omou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Úste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dubi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lín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ihoče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ředoče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zeň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álovéhrade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ere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ihomorav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rlovar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6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(v %)                                               5/6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50920" y="1052640"/>
          <a:ext cx="8569080" cy="5742000"/>
        </p:xfrm>
        <a:graphic>
          <a:graphicData uri="http://schemas.openxmlformats.org/drawingml/2006/table">
            <a:tbl>
              <a:tblPr/>
              <a:tblGrid>
                <a:gridCol w="1728720"/>
                <a:gridCol w="992160"/>
                <a:gridCol w="1174680"/>
                <a:gridCol w="1265400"/>
                <a:gridCol w="1133280"/>
                <a:gridCol w="1158840"/>
                <a:gridCol w="1116000"/>
              </a:tblGrid>
              <a:tr h="684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aj/mě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áno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ntr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rek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klus PD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ra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Středočesk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oravskoslezsk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Zlín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Třin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lzeňsk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ladá Bolesl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ardub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radec Králov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Litoměř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……</a:t>
                      </a: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Břecl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Rychnov n. Kně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h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8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(v %)                                               6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státu - plošná                                               1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836640"/>
          <a:ext cx="9144000" cy="5059440"/>
        </p:xfrm>
        <a:graphic>
          <a:graphicData uri="http://schemas.openxmlformats.org/drawingml/2006/table">
            <a:tbl>
              <a:tblPr/>
              <a:tblGrid>
                <a:gridCol w="514440"/>
                <a:gridCol w="7832520"/>
                <a:gridCol w="797040"/>
              </a:tblGrid>
              <a:tr h="5364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vytvoření jasného strategického rámce implementace konceptu SC/R na úrovni státu v oblastech národního záj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144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národní strategii pro rozvoj konceptu SC/R v hlavních cílových oblastech.  Strategie by měla zahrnovat cíle a přístupy státu v následujících segmentech (prosíme o zatržení  relevantní oblasti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Inovace a rozvoj podnikání (Smart akcelerátory, průmysl 4.0, sdílená ekonomika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76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CT a efektivní správa území (městské sítě, wi-fi, E-government, E-komunikace, centrální řídící jednotky, digitalizovaná městská data/passporty, open data..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364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Udržitelná energetika (energetický management, smart-grid systémy, kogenerační jednotky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6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Udržitelná mobilita (doprava a dopravní systémy, e-mobilita, cyklodoprava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364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Životní prostředí a udržitelné hospodaření s přírodními zdroji (voda, odpady, znečištění, veřejná zeleň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75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) Zdravotnictví, bezpečnost a sociální služ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6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) Vzdělávání a 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57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) Kultura a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367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tvářet novou strategii, ale odstranit duplicity stávajících strategií definované pro jednotlivé oblasti a zahrnout SC/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730080"/>
          <a:ext cx="9180360" cy="6031080"/>
        </p:xfrm>
        <a:graphic>
          <a:graphicData uri="http://schemas.openxmlformats.org/drawingml/2006/table">
            <a:tbl>
              <a:tblPr/>
              <a:tblGrid>
                <a:gridCol w="473040"/>
                <a:gridCol w="8131320"/>
                <a:gridCol w="576000"/>
              </a:tblGrid>
              <a:tr h="79236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rozpracování regionálních strategií (v návaznosti na národní strategii, zohledňujících specifika rozvoje území) strategií pro rozvoj konceptu SC/R pro následující segmenty (respondenti zatrhnou relevantní oblasti konceptu SC/R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714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Inovace a rozvoj podnikání (Smart akcelerátory,průmysl 4.0,sdílená ekonomika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CT a efektivní správa území (městské sítě, wi-fi, E-government, E-komunikace, centrální řídící jednotky, digitalizovaná městská data/pasporty, open data..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Udržitelná energetika (energetický management, smart-grid systémy, kogenerační jednotky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714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Udržitelná mobilita (doprava a dopravní systémy, e-mobilita, cyklodoprava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Životní prostředí a udržitelné hospodaření s přírodními zdroji (voda, odpady, znečištění, veřejná zeleň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0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) Zdravotnictví, bezpečnost a sociální služ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0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) Vzdělávání a 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2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) Kultura a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stranit resortismus ze strany státu, kdy přístup k implementaci konceptu Smart je specifický pro relevantní ministerstva (především MMR, MV, MPSV, MPO, MŽP), vytvořit jednotnou pracovní skupinu, nabízí se využití některé z existujících „Rad vlády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sně vymezit kompetence a odpovědnosti (odstranění resortismu ministerstev) za naplňování národní strategie + nezávislá expertní kom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dotační tituly pro podporu implementace konceptu SC/R v souladu se strategií ČR (jasně definovaná kritéria pro využití moderních technologi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stručnou a jasnou metodiku vztahující se ke způsobům čerpání prostředků pro realizaci národní strategie ve vymezených oblaste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státu- plošná                                                2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státu – plošná                                               3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836640"/>
          <a:ext cx="9144000" cy="5878440"/>
        </p:xfrm>
        <a:graphic>
          <a:graphicData uri="http://schemas.openxmlformats.org/drawingml/2006/table">
            <a:tbl>
              <a:tblPr/>
              <a:tblGrid>
                <a:gridCol w="468360"/>
                <a:gridCol w="7864560"/>
                <a:gridCol w="811080"/>
              </a:tblGrid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rozvoj jednotné komunikační platformy a sdílení informací  (například MMR ve spolupráci se Svazem měst a obcí a dalšími iniciativami) s možností osobního kontaktu (expertního poradenství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kytovat informace o podmínkách realizace národní strategie SC/R -poskytování poradenského servisu -  možnost osobního kontaktu a konkrétního expertního poradenství pro specifické podmínky obce/region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5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ále podporovat možnost  seznámit  se s příklady dobré prax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53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 pro kategorii „menších měst“ především v rámci Č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42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 pro „větší města“ jak v rámci ČR, tak i v zahranič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110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a zajistit aktualizaci zásobníku/databáze ověřených řešení pro jednotlivé oblasti implementace konceptu SC/R a firem, které řešení úspěšně realizovaly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5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pracovat jednoduchou metodickou pomůcku (motivační, iniciační charakt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řit se na implementaci konceptu SC/R na státní úrovni, tzn. vytvořit „Smart stát“,  a to především pro oblast státní správy (ID občanů, ITC a efektivní výkon státní správ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5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t osvětu a vzdělá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lovat povědomí o konceptu Smart prostřednictvím osvětové činnosti, PR (propagace) konceptu SC/R ze strany stá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t vzdělávání v oblasti SC/R (cílová skupina děti  - ZŠ; SŠ, odborníci na VŠ, celoživotní vzděláván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měst - specifická                                         1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-25560" y="836640"/>
          <a:ext cx="9144000" cy="4832280"/>
        </p:xfrm>
        <a:graphic>
          <a:graphicData uri="http://schemas.openxmlformats.org/drawingml/2006/table">
            <a:tbl>
              <a:tblPr/>
              <a:tblGrid>
                <a:gridCol w="684360"/>
                <a:gridCol w="7920000"/>
                <a:gridCol w="539640"/>
              </a:tblGrid>
              <a:tr h="5349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kračovat v podpoře strategického plánování implementace konceptu SC/R na úrovni menších obcí (poradenství,lidské zdroje,finanční zdroj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969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zapojení úředníků krajů/měst do jednotlivých fází implementace konceptu SC/R umožněním jejich finančního ohodnocení nad rámec stávajícího odměňování (např. dohody o provedení práce, při zapojení do projektů možnost získat úvazek větší než 1,0…atd.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možnosti stínování úředníků v případě zájmu o podrobné seznámení se s příkladem dobré prax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08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t kvalitní projektovou přípravu a zadávací dokumentaci projekt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63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ožnit financovat kvalitní projektovou přípravu investičních akc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85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poradenskou platformu pro spolupráci na zadávací dokumentaci pro projek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60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ě podporovat implementaci konceptu SC/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 rámci investičních dotačních titulů (jak na národní, tak i regionální úrovni) nastavit podmínky tak, aby využití těchto zdrojů financování umožňovalo „Smart řešení“ v souladu s národní/regionální strategií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vhodné programy a zjednodušit pravidla čerpání finančních zdrojů z Evropských fond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měst - specifická                                         2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836640"/>
          <a:ext cx="9144000" cy="5499000"/>
        </p:xfrm>
        <a:graphic>
          <a:graphicData uri="http://schemas.openxmlformats.org/drawingml/2006/table">
            <a:tbl>
              <a:tblPr/>
              <a:tblGrid>
                <a:gridCol w="611280"/>
                <a:gridCol w="7721640"/>
                <a:gridCol w="811080"/>
              </a:tblGrid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fond pro financování pilotních projektů SC/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0447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ožnit financování pilotních projektů  (sdílení rizika, vhodný pro větší města)(jednoduchá a dynamická pravidla pro hodnocení projektů bez ohledu na oblast - kritéria hodnocení podle výsledných efektů projektů, připustit neúspěšnost projektu, výběr za pomocí expertní skupiny nebo referenc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systém inovačních voucherů pro podporu rozvoje těch Smart řešení, která jsou v souladu s národní/regionální strategií rozvoje konceptu SC/R (využitelný pro menší města, volnost ve výběru oblastí implementace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a jasně vymezit jasná pravidla a metodiku pro využívání PPP projekt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stranit legislativní barié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ést revizi (pro potřebu snazší implementace konceptu SC/R) zákona o veřejných zakázká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64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ožnit zapracování "prvků Smart technologií" (které zvyšují cenu a nejsou definovány nebo definovatelné v cenících) do projektů revitalizací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předpoklady pro preferenci zapojení místních firem do implementace konceptu SC/R či firem, které realizovaly předcházející etapu úspěšných řešení (omezit napadání a nekalou konkurenc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676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žadovat podmínku otevřených řešení umožňujících kompatibilitu navazujících modulárních projektů financovaných z veřejn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32c92"/>
                </a:solidFill>
                <a:latin typeface="Arial"/>
              </a:rPr>
              <a:t>Osnova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Cíl  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Metodický postup řešení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Vyhodnocení procesu implementace konceptu Smart City/Smart Region v ČR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Doporučení na podporu implementace konceptu Smart City/Region v ČR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měst - specifická                                         3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836640"/>
          <a:ext cx="9144000" cy="1382760"/>
        </p:xfrm>
        <a:graphic>
          <a:graphicData uri="http://schemas.openxmlformats.org/drawingml/2006/table">
            <a:tbl>
              <a:tblPr/>
              <a:tblGrid>
                <a:gridCol w="611280"/>
                <a:gridCol w="7721640"/>
                <a:gridCol w="811080"/>
              </a:tblGrid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jistit, aby legislativa držela krok s technologickým pokrokem (např. definovat požadavky na autonomní dopravu a podobně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ovat formy soudně uznatelných dokumentů pro archivaci (mohou být v elektronické podobě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ovat minimální standardy Smart technologi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mbria"/>
              </a:rPr>
              <a:t>Děkujeme za pozornost</a:t>
            </a:r>
            <a:endParaRPr b="1" lang="en-US" sz="3200" spc="-1" strike="noStrike">
              <a:solidFill>
                <a:srgbClr val="c32c92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íl projektu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7280" y="177336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05050"/>
                </a:solidFill>
                <a:latin typeface="Arial"/>
              </a:rPr>
              <a:t>Cílem projektu bylo zmapovat aktuální stav a míru zapojení jednotlivých krajů, krajských měst a bývalých okresních měst do konceptu Smart City/Smart Region, zmapovat úroveň procesu implementace tohoto konceptu, názorů na potřebu jeho podpory a dle zjištění následně navrhnout vhodná opatření, jak jejich intenzitu zapojení do tohoto konceptu zvýšit. </a:t>
            </a:r>
            <a:endParaRPr b="0" lang="en-US" sz="28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7280" y="4392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1/5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87280" y="1295280"/>
            <a:ext cx="74995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imární šetření bylo koncipováno tak, aby umožňovalo získat informace využitelné pro komplexní mapování a komparaci úrovně implementace konceptu strategického řízení SC/R, participace, motivace, bariér, síťování, role vlády a potřeb podpory zvýšení míry implementace SC/R .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Kritéria a stupnice pro hodnocení míry zapojení měst/krajů do konceptu SC/R vychází z konceptu analýzy Demingova cyklu (PDCA), který je využíván pro evaluaci cyklu neustálého zlepšování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Rámec evaluace implementace konceptu SC/R sestával ze 48 hierarchicky uspořádaných komponent/kritérií, které byly rozděleny na 4 na sebe navazující vyšší celky procesu PDCA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Metodika byla upravena podle standardů ETSI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V úvodním dopise byl stručně objasněn mandát, účel a předmět výzkumu s žádostí o účast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187280" y="1486080"/>
            <a:ext cx="74995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Celkem bylo kontaktováno 13 zástupců Krajských úřadů, zástupci hlavního města Prahy, 13 zástupců krajských měst a 55 zástupců bývalých okresních a dalších měst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Následně byli zástupci krajských úřadů a měst opět kontaktováni telefonicky, kdy byl dojednán konkrétní termín schůzky a kontaktní osoby pověřené vedením města. V této iniciační fázi se  5 zástupců měst odmítlo z různých důvodů výzkumu zúčastnit  (9 %). Také se nepodařilo realizovat setkání se zástupci Jihomoravského kraje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o každý kraj/město zahrnuté do výzkumu byla provedena ex ante analytická příprava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2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187280" y="1267920"/>
            <a:ext cx="7499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Primární úroveň mapování a hodnocení 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Semi-strukturované rozhovory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Následné expertní hodnocení procesu implementace konceptu SC/R s využitím analýzy PDCA cyklu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Výsledky rozhovoru byly spolu s výsledky analytické přípravné fáze zpracovány prostřednictvím kódování standardizovaných odpovědí do databáze výsledků šetření - „Karta města“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Názory a náměty představitelů krajů/měst pro podporu implementace konceptu SC/R shromážděné prostřednictvím řízených rozhovorů byly následně kategorizovány a sumarizovány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Celkový přehled navrhovaných opatření byl elektronicky zaslán k vyjádření všem představitelům krajů/měst, kteří se účastnili výzkumu + verifikace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3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187280" y="141300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Sekundární úroveň - Expertní mapování procesu implementace konceptu Smart City/Region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Vzhledem k srovnatelné významnosti jednotlivých fází cyklu PDCA, která byla potvrzena výsledky expertního hodnocení metodou AHP byla v první úrovni hierarchické struktury přiřazena stejná váha 0,25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otože druhá úroveň hierarchické struktury využívá rozsáhlého souboru sub-kritérií, jejichž počet je pro jednotlivé fáze PDCA rozdílný, byla pro komplexní MCA hodnocení využita metoda postupného rozvrhu vah na základě alokace bodového hodnocení významnosti kritéria. 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4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187280" y="191628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Výsledná váha byla získána jako výsledek participativního hodnocení v expertní skupině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Pro dosažení srovnatelnosti významnosti souboru kritérií, byly váhy sub kritérií následně normovány tak, aby jejich součet byl roven celkové hodnotě kritéria na vyšší hierarchické úrovni.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Výsledné skóre bylo zjišťováno na základě normovaných hodnot výsledné databáze výsledků 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5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713880" y="9669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stupem verifikovaná standardizovaná databáze odpovědí - matice (75 záznamů x 35 údajů), tj. 2625 zpracovaných údajů.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54" name="picture" descr=""/>
          <p:cNvPicPr/>
          <p:nvPr/>
        </p:nvPicPr>
        <p:blipFill>
          <a:blip r:embed="rId1"/>
          <a:stretch/>
        </p:blipFill>
        <p:spPr>
          <a:xfrm>
            <a:off x="1979640" y="2519280"/>
            <a:ext cx="5400720" cy="4078440"/>
          </a:xfrm>
          <a:prstGeom prst="rect">
            <a:avLst/>
          </a:prstGeom>
          <a:ln w="0">
            <a:noFill/>
          </a:ln>
        </p:spPr>
      </p:pic>
      <p:sp>
        <p:nvSpPr>
          <p:cNvPr id="155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1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3:47:14Z</dcterms:created>
  <dc:creator>Pavla Soukopová</dc:creator>
  <dc:description/>
  <dc:language>en-US</dc:language>
  <cp:lastModifiedBy>Libor Grega</cp:lastModifiedBy>
  <dcterms:modified xsi:type="dcterms:W3CDTF">2019-03-22T12:27:34Z</dcterms:modified>
  <cp:revision>119</cp:revision>
  <dc:subject/>
  <dc:title>Snímek 1</dc:title>
</cp:coreProperties>
</file>